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FD02-735C-467C-864F-0DF77CFB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153-918D-452D-8465-D0986D9D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15EE-177B-44EC-BB3D-3A01EA59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940-9818-41A0-8D4D-F6A2B25C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4C6-86E5-49B5-BD1E-9C317C31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35CA-8975-4B45-B18C-9732AE3E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1BBC-FFB7-468B-B3B6-E083C0DB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052F-AF65-43F5-8E87-1390F109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3E2-FEF3-404A-8CFE-66FA7AD4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22BE-D879-4690-9334-FD0D929F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3933-6B0C-41A7-B1E9-F044FFB9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2068-87B6-4FE1-820D-A3C359DD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54C4-2293-4FCB-A01F-8E6A3E79E5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ife of Christ, Part 2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 Pere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rter 10, Lesson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10:40-42, Luke 14:1 - 16: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ges 110-1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r, We Would See Jesu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0"/>
          <a:ext cx="914400" cy="65556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0" y="0"/>
          <a:ext cx="914400" cy="65556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114800" y="0"/>
          <a:ext cx="914400" cy="3808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8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4481640" y="3805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114800" y="0"/>
          <a:ext cx="914400" cy="3808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38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4481640" y="3805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39152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sus withdraws to Perea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ohn 10:40-42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crossed over the Jordan to the region of Perea where John baptized in the early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months remained until Jesus’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ea included Machaerus where John was behe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ea was ruled by Herod Antip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sus eats with a ruler of the Pharisees and heals a man on the sabbath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uke 14:1-24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healed a man on the sabbath as his enemies watc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knew their thoughts, questioned their int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sus eats with a ruler of the Pharisees and heals a man on the sabbath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uke 14:1-24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taught a lesson in being humble when choosing seats at a marriage f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gave the basis for inviting g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ited guests refused the great sup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had bought a f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had bought ox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had recently marr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s were invi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esus warns the multitudes about the cost of discipleship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uke 14:25-35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ers must place Christ above all others, even him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ers must consider the cost of following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ers must assess requirements when entering the bat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ree great parable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ost Sheep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uke 15:1-32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reproved the Pharisees concerning sinners that rep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epherd rejoiced when a lost sheep was f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rejoicing over one that repents than ninety-nine who have been faithfu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ree great parable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ost Coin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uke 15:1-32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coin is lost, diligent effort is applied to find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rejoicing when the coin is f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joy among the angels of God over one sinner who rep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ree great parable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ost Son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uke 15:1-32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younger son received his inheritance and wasted it on riotous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he came to himself, he realized that his father’s hired servants lived better than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n asked that he be as a hired serv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east was prepared for the returning 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hough the older son objected, his father rejoiced because his son was lost, and is f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the condition of each 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Parable of the unjust steward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Luke 16:1-18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teward was accused of wasting his master’s money, so he was called to give an account of 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steward learned that he was to be fired, he plotted to avoid difficult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ter learned what the steward had done, and he commended him for acting shrewd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ren of this world are occasionally more shrewd in their temporal dealing than children of light in spiritual mat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rvant can serve two masters.  Our emphasis should be laying up treasures in heav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21:39:45Z</dcterms:created>
  <dc:creator>Ray Cooley</dc:creator>
  <dc:description/>
  <dc:language>en-US</dc:language>
  <cp:lastModifiedBy>Ray Cooley</cp:lastModifiedBy>
  <dcterms:modified xsi:type="dcterms:W3CDTF">2006-07-14T23:22:19Z</dcterms:modified>
  <cp:revision>21</cp:revision>
  <dc:subject/>
  <dc:title>Life of Christ, Part 2 In Perea</dc:title>
</cp:coreProperties>
</file>